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3EC-7C69-4EE3-AFC7-076034EA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EAA-6FE8-4FD4-ACBF-F5169608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CDF-10A4-444D-AB94-B282B78E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A4C-92DC-4609-9651-1775C4D9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C55-EE59-48E2-873F-A4919137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648-233E-40E7-8DFE-842679BB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A54-C006-485F-B970-AE14BBCE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7D2-9D87-40DC-A58E-AB3810D6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33F-CB68-4BEB-8C04-1985D2E3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D81-E4C1-4051-A85D-4D9BA2DF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4CD-DC75-4350-B7C0-DC8DB9A3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AAF-6012-478E-90A3-6CA8A597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DB21-CFC1-423D-AB7A-3495E3EC4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27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6969600">
            <a:off x="-3600" y="2675160"/>
            <a:ext cx="2423880" cy="473040"/>
          </a:xfrm>
          <a:custGeom>
            <a:avLst/>
            <a:gdLst/>
            <a:ahLst/>
            <a:rect l="l" t="t" r="r" b="b"/>
            <a:pathLst>
              <a:path w="1527" h="298">
                <a:moveTo>
                  <a:pt x="0" y="298"/>
                </a:moveTo>
                <a:cubicBezTo>
                  <a:pt x="61" y="215"/>
                  <a:pt x="164" y="196"/>
                  <a:pt x="254" y="157"/>
                </a:cubicBezTo>
                <a:cubicBezTo>
                  <a:pt x="429" y="81"/>
                  <a:pt x="618" y="31"/>
                  <a:pt x="810" y="17"/>
                </a:cubicBezTo>
                <a:cubicBezTo>
                  <a:pt x="904" y="0"/>
                  <a:pt x="990" y="9"/>
                  <a:pt x="1085" y="23"/>
                </a:cubicBezTo>
                <a:cubicBezTo>
                  <a:pt x="1147" y="54"/>
                  <a:pt x="1189" y="105"/>
                  <a:pt x="1239" y="151"/>
                </a:cubicBezTo>
                <a:cubicBezTo>
                  <a:pt x="1293" y="200"/>
                  <a:pt x="1349" y="233"/>
                  <a:pt x="1413" y="264"/>
                </a:cubicBezTo>
                <a:cubicBezTo>
                  <a:pt x="1463" y="255"/>
                  <a:pt x="1467" y="237"/>
                  <a:pt x="1493" y="197"/>
                </a:cubicBezTo>
                <a:cubicBezTo>
                  <a:pt x="1498" y="189"/>
                  <a:pt x="1502" y="180"/>
                  <a:pt x="1506" y="171"/>
                </a:cubicBezTo>
                <a:cubicBezTo>
                  <a:pt x="1509" y="165"/>
                  <a:pt x="1509" y="157"/>
                  <a:pt x="1513" y="151"/>
                </a:cubicBezTo>
                <a:cubicBezTo>
                  <a:pt x="1516" y="145"/>
                  <a:pt x="1527" y="137"/>
                  <a:pt x="1527" y="137"/>
                </a:cubicBezTo>
              </a:path>
            </a:pathLst>
          </a:custGeom>
          <a:noFill/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1197000"/>
            <a:ext cx="1008000" cy="72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773360"/>
            <a:ext cx="679320" cy="1457280"/>
          </a:xfrm>
          <a:custGeom>
            <a:avLst/>
            <a:gdLst/>
            <a:ahLst/>
            <a:rect l="l" t="t" r="r" b="b"/>
            <a:pathLst>
              <a:path w="428" h="918">
                <a:moveTo>
                  <a:pt x="428" y="0"/>
                </a:moveTo>
                <a:cubicBezTo>
                  <a:pt x="422" y="34"/>
                  <a:pt x="414" y="56"/>
                  <a:pt x="401" y="87"/>
                </a:cubicBezTo>
                <a:cubicBezTo>
                  <a:pt x="381" y="134"/>
                  <a:pt x="371" y="186"/>
                  <a:pt x="355" y="234"/>
                </a:cubicBezTo>
                <a:cubicBezTo>
                  <a:pt x="343" y="270"/>
                  <a:pt x="323" y="307"/>
                  <a:pt x="308" y="342"/>
                </a:cubicBezTo>
                <a:cubicBezTo>
                  <a:pt x="304" y="351"/>
                  <a:pt x="299" y="360"/>
                  <a:pt x="294" y="368"/>
                </a:cubicBezTo>
                <a:cubicBezTo>
                  <a:pt x="290" y="375"/>
                  <a:pt x="284" y="381"/>
                  <a:pt x="281" y="388"/>
                </a:cubicBezTo>
                <a:cubicBezTo>
                  <a:pt x="257" y="441"/>
                  <a:pt x="242" y="496"/>
                  <a:pt x="207" y="543"/>
                </a:cubicBezTo>
                <a:cubicBezTo>
                  <a:pt x="193" y="590"/>
                  <a:pt x="213" y="533"/>
                  <a:pt x="180" y="583"/>
                </a:cubicBezTo>
                <a:cubicBezTo>
                  <a:pt x="176" y="589"/>
                  <a:pt x="177" y="597"/>
                  <a:pt x="174" y="603"/>
                </a:cubicBezTo>
                <a:cubicBezTo>
                  <a:pt x="170" y="610"/>
                  <a:pt x="165" y="616"/>
                  <a:pt x="160" y="623"/>
                </a:cubicBezTo>
                <a:cubicBezTo>
                  <a:pt x="150" y="656"/>
                  <a:pt x="124" y="682"/>
                  <a:pt x="113" y="717"/>
                </a:cubicBezTo>
                <a:cubicBezTo>
                  <a:pt x="89" y="792"/>
                  <a:pt x="88" y="887"/>
                  <a:pt x="0" y="918"/>
                </a:cubicBezTo>
                <a:cubicBezTo>
                  <a:pt x="7" y="907"/>
                  <a:pt x="20" y="884"/>
                  <a:pt x="20" y="884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6120" y="1881360"/>
            <a:ext cx="830520" cy="1258560"/>
          </a:xfrm>
          <a:custGeom>
            <a:avLst/>
            <a:gdLst/>
            <a:ahLst/>
            <a:rect l="l" t="t" r="r" b="b"/>
            <a:pathLst>
              <a:path w="523" h="793">
                <a:moveTo>
                  <a:pt x="523" y="0"/>
                </a:moveTo>
                <a:cubicBezTo>
                  <a:pt x="487" y="87"/>
                  <a:pt x="442" y="168"/>
                  <a:pt x="375" y="235"/>
                </a:cubicBezTo>
                <a:cubicBezTo>
                  <a:pt x="348" y="291"/>
                  <a:pt x="379" y="239"/>
                  <a:pt x="342" y="275"/>
                </a:cubicBezTo>
                <a:cubicBezTo>
                  <a:pt x="312" y="305"/>
                  <a:pt x="344" y="286"/>
                  <a:pt x="315" y="309"/>
                </a:cubicBezTo>
                <a:cubicBezTo>
                  <a:pt x="291" y="328"/>
                  <a:pt x="255" y="342"/>
                  <a:pt x="228" y="355"/>
                </a:cubicBezTo>
                <a:cubicBezTo>
                  <a:pt x="206" y="377"/>
                  <a:pt x="179" y="397"/>
                  <a:pt x="154" y="416"/>
                </a:cubicBezTo>
                <a:cubicBezTo>
                  <a:pt x="139" y="447"/>
                  <a:pt x="129" y="479"/>
                  <a:pt x="114" y="510"/>
                </a:cubicBezTo>
                <a:cubicBezTo>
                  <a:pt x="98" y="599"/>
                  <a:pt x="86" y="698"/>
                  <a:pt x="20" y="764"/>
                </a:cubicBezTo>
                <a:cubicBezTo>
                  <a:pt x="6" y="793"/>
                  <a:pt x="17" y="791"/>
                  <a:pt x="0" y="7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700280"/>
            <a:ext cx="1020600" cy="1511280"/>
          </a:xfrm>
          <a:custGeom>
            <a:avLst/>
            <a:gdLst/>
            <a:ahLst/>
            <a:rect l="l" t="t" r="r" b="b"/>
            <a:pathLst>
              <a:path w="643" h="952">
                <a:moveTo>
                  <a:pt x="643" y="0"/>
                </a:moveTo>
                <a:cubicBezTo>
                  <a:pt x="636" y="26"/>
                  <a:pt x="635" y="42"/>
                  <a:pt x="616" y="61"/>
                </a:cubicBezTo>
                <a:cubicBezTo>
                  <a:pt x="608" y="87"/>
                  <a:pt x="591" y="113"/>
                  <a:pt x="569" y="128"/>
                </a:cubicBezTo>
                <a:cubicBezTo>
                  <a:pt x="552" y="154"/>
                  <a:pt x="534" y="169"/>
                  <a:pt x="509" y="188"/>
                </a:cubicBezTo>
                <a:cubicBezTo>
                  <a:pt x="476" y="238"/>
                  <a:pt x="423" y="261"/>
                  <a:pt x="382" y="302"/>
                </a:cubicBezTo>
                <a:cubicBezTo>
                  <a:pt x="368" y="342"/>
                  <a:pt x="374" y="382"/>
                  <a:pt x="362" y="422"/>
                </a:cubicBezTo>
                <a:cubicBezTo>
                  <a:pt x="354" y="450"/>
                  <a:pt x="330" y="471"/>
                  <a:pt x="315" y="496"/>
                </a:cubicBezTo>
                <a:cubicBezTo>
                  <a:pt x="288" y="540"/>
                  <a:pt x="306" y="509"/>
                  <a:pt x="275" y="536"/>
                </a:cubicBezTo>
                <a:cubicBezTo>
                  <a:pt x="263" y="547"/>
                  <a:pt x="241" y="570"/>
                  <a:pt x="241" y="570"/>
                </a:cubicBezTo>
                <a:cubicBezTo>
                  <a:pt x="201" y="654"/>
                  <a:pt x="257" y="544"/>
                  <a:pt x="208" y="617"/>
                </a:cubicBezTo>
                <a:cubicBezTo>
                  <a:pt x="195" y="636"/>
                  <a:pt x="192" y="653"/>
                  <a:pt x="174" y="670"/>
                </a:cubicBezTo>
                <a:cubicBezTo>
                  <a:pt x="152" y="715"/>
                  <a:pt x="127" y="798"/>
                  <a:pt x="87" y="824"/>
                </a:cubicBezTo>
                <a:cubicBezTo>
                  <a:pt x="79" y="836"/>
                  <a:pt x="67" y="846"/>
                  <a:pt x="60" y="858"/>
                </a:cubicBezTo>
                <a:cubicBezTo>
                  <a:pt x="56" y="864"/>
                  <a:pt x="58" y="872"/>
                  <a:pt x="54" y="878"/>
                </a:cubicBezTo>
                <a:cubicBezTo>
                  <a:pt x="47" y="889"/>
                  <a:pt x="35" y="895"/>
                  <a:pt x="27" y="905"/>
                </a:cubicBezTo>
                <a:cubicBezTo>
                  <a:pt x="17" y="918"/>
                  <a:pt x="0" y="938"/>
                  <a:pt x="14" y="952"/>
                </a:cubicBezTo>
              </a:path>
            </a:pathLst>
          </a:cu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57720"/>
            <a:ext cx="1619280" cy="3500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581360"/>
            <a:ext cx="936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pipe takes sewerage system to st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187280" y="501336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0"/>
            <a:ext cx="586728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516720" y="260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00720" y="1268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ewerage from household an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2781360"/>
            <a:ext cx="14400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21607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en’s super waste removal plant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20" y="-27000"/>
            <a:ext cx="2195640" cy="227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08000" y="2421000"/>
            <a:ext cx="749520" cy="2000160"/>
          </a:xfrm>
          <a:custGeom>
            <a:avLst/>
            <a:gdLst/>
            <a:ahLst/>
            <a:rect l="l" t="t" r="r" b="b"/>
            <a:pathLst>
              <a:path w="472" h="1260">
                <a:moveTo>
                  <a:pt x="472" y="0"/>
                </a:moveTo>
                <a:cubicBezTo>
                  <a:pt x="443" y="43"/>
                  <a:pt x="458" y="26"/>
                  <a:pt x="430" y="54"/>
                </a:cubicBezTo>
                <a:cubicBezTo>
                  <a:pt x="422" y="79"/>
                  <a:pt x="403" y="92"/>
                  <a:pt x="388" y="114"/>
                </a:cubicBezTo>
                <a:cubicBezTo>
                  <a:pt x="380" y="126"/>
                  <a:pt x="364" y="150"/>
                  <a:pt x="364" y="150"/>
                </a:cubicBezTo>
                <a:cubicBezTo>
                  <a:pt x="348" y="213"/>
                  <a:pt x="372" y="136"/>
                  <a:pt x="340" y="192"/>
                </a:cubicBezTo>
                <a:cubicBezTo>
                  <a:pt x="336" y="199"/>
                  <a:pt x="328" y="250"/>
                  <a:pt x="328" y="252"/>
                </a:cubicBezTo>
                <a:cubicBezTo>
                  <a:pt x="337" y="356"/>
                  <a:pt x="329" y="365"/>
                  <a:pt x="286" y="450"/>
                </a:cubicBezTo>
                <a:cubicBezTo>
                  <a:pt x="271" y="480"/>
                  <a:pt x="263" y="511"/>
                  <a:pt x="244" y="540"/>
                </a:cubicBezTo>
                <a:cubicBezTo>
                  <a:pt x="229" y="601"/>
                  <a:pt x="200" y="652"/>
                  <a:pt x="172" y="708"/>
                </a:cubicBezTo>
                <a:cubicBezTo>
                  <a:pt x="168" y="715"/>
                  <a:pt x="169" y="724"/>
                  <a:pt x="166" y="732"/>
                </a:cubicBezTo>
                <a:cubicBezTo>
                  <a:pt x="163" y="740"/>
                  <a:pt x="159" y="748"/>
                  <a:pt x="154" y="756"/>
                </a:cubicBezTo>
                <a:cubicBezTo>
                  <a:pt x="104" y="841"/>
                  <a:pt x="41" y="920"/>
                  <a:pt x="10" y="1014"/>
                </a:cubicBezTo>
                <a:cubicBezTo>
                  <a:pt x="13" y="1059"/>
                  <a:pt x="0" y="1113"/>
                  <a:pt x="40" y="1140"/>
                </a:cubicBezTo>
                <a:cubicBezTo>
                  <a:pt x="73" y="1189"/>
                  <a:pt x="144" y="1205"/>
                  <a:pt x="196" y="1224"/>
                </a:cubicBezTo>
                <a:cubicBezTo>
                  <a:pt x="221" y="1233"/>
                  <a:pt x="256" y="1235"/>
                  <a:pt x="268" y="1260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349360"/>
            <a:ext cx="314640" cy="1838520"/>
          </a:xfrm>
          <a:custGeom>
            <a:avLst/>
            <a:gdLst/>
            <a:ahLst/>
            <a:rect l="l" t="t" r="r" b="b"/>
            <a:pathLst>
              <a:path w="198" h="1158">
                <a:moveTo>
                  <a:pt x="132" y="0"/>
                </a:moveTo>
                <a:cubicBezTo>
                  <a:pt x="134" y="46"/>
                  <a:pt x="126" y="96"/>
                  <a:pt x="144" y="138"/>
                </a:cubicBezTo>
                <a:cubicBezTo>
                  <a:pt x="167" y="191"/>
                  <a:pt x="148" y="123"/>
                  <a:pt x="162" y="174"/>
                </a:cubicBezTo>
                <a:cubicBezTo>
                  <a:pt x="170" y="202"/>
                  <a:pt x="183" y="224"/>
                  <a:pt x="192" y="252"/>
                </a:cubicBezTo>
                <a:cubicBezTo>
                  <a:pt x="194" y="258"/>
                  <a:pt x="198" y="270"/>
                  <a:pt x="198" y="270"/>
                </a:cubicBezTo>
                <a:cubicBezTo>
                  <a:pt x="190" y="342"/>
                  <a:pt x="173" y="353"/>
                  <a:pt x="132" y="408"/>
                </a:cubicBezTo>
                <a:cubicBezTo>
                  <a:pt x="103" y="447"/>
                  <a:pt x="97" y="484"/>
                  <a:pt x="72" y="522"/>
                </a:cubicBezTo>
                <a:cubicBezTo>
                  <a:pt x="66" y="550"/>
                  <a:pt x="61" y="568"/>
                  <a:pt x="48" y="594"/>
                </a:cubicBezTo>
                <a:cubicBezTo>
                  <a:pt x="46" y="604"/>
                  <a:pt x="46" y="614"/>
                  <a:pt x="42" y="624"/>
                </a:cubicBezTo>
                <a:cubicBezTo>
                  <a:pt x="39" y="631"/>
                  <a:pt x="32" y="635"/>
                  <a:pt x="30" y="642"/>
                </a:cubicBezTo>
                <a:cubicBezTo>
                  <a:pt x="24" y="659"/>
                  <a:pt x="24" y="679"/>
                  <a:pt x="18" y="696"/>
                </a:cubicBezTo>
                <a:cubicBezTo>
                  <a:pt x="23" y="787"/>
                  <a:pt x="24" y="877"/>
                  <a:pt x="42" y="966"/>
                </a:cubicBezTo>
                <a:cubicBezTo>
                  <a:pt x="39" y="1030"/>
                  <a:pt x="50" y="1108"/>
                  <a:pt x="0" y="1158"/>
                </a:cubicBezTo>
              </a:path>
            </a:pathLst>
          </a:custGeom>
          <a:noFill/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349360"/>
            <a:ext cx="142920" cy="2476800"/>
          </a:xfrm>
          <a:custGeom>
            <a:avLst/>
            <a:gdLst/>
            <a:ahLst/>
            <a:rect l="l" t="t" r="r" b="b"/>
            <a:pathLst>
              <a:path w="90" h="1560">
                <a:moveTo>
                  <a:pt x="30" y="0"/>
                </a:moveTo>
                <a:cubicBezTo>
                  <a:pt x="19" y="42"/>
                  <a:pt x="14" y="85"/>
                  <a:pt x="0" y="126"/>
                </a:cubicBezTo>
                <a:cubicBezTo>
                  <a:pt x="5" y="209"/>
                  <a:pt x="3" y="257"/>
                  <a:pt x="48" y="324"/>
                </a:cubicBezTo>
                <a:cubicBezTo>
                  <a:pt x="56" y="357"/>
                  <a:pt x="71" y="387"/>
                  <a:pt x="78" y="420"/>
                </a:cubicBezTo>
                <a:cubicBezTo>
                  <a:pt x="82" y="440"/>
                  <a:pt x="90" y="480"/>
                  <a:pt x="90" y="480"/>
                </a:cubicBezTo>
                <a:cubicBezTo>
                  <a:pt x="87" y="568"/>
                  <a:pt x="90" y="616"/>
                  <a:pt x="72" y="690"/>
                </a:cubicBezTo>
                <a:cubicBezTo>
                  <a:pt x="68" y="876"/>
                  <a:pt x="60" y="968"/>
                  <a:pt x="42" y="1128"/>
                </a:cubicBezTo>
                <a:cubicBezTo>
                  <a:pt x="44" y="1180"/>
                  <a:pt x="48" y="1232"/>
                  <a:pt x="48" y="1284"/>
                </a:cubicBezTo>
                <a:cubicBezTo>
                  <a:pt x="48" y="1376"/>
                  <a:pt x="42" y="1560"/>
                  <a:pt x="42" y="156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516640"/>
            <a:ext cx="4572000" cy="1341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4797360"/>
            <a:ext cx="208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 attracts all met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92000" y="515772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2133720"/>
            <a:ext cx="295272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6165720"/>
            <a:ext cx="215640" cy="358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6165720"/>
            <a:ext cx="1584000" cy="35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5661000"/>
            <a:ext cx="3059280" cy="119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5229360"/>
            <a:ext cx="7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869000"/>
            <a:ext cx="1943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is pipe consumes all the organic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589720"/>
            <a:ext cx="2700360" cy="12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3068640"/>
            <a:ext cx="1800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619280" y="501336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4581360"/>
            <a:ext cx="201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s rocks, gla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buds and remaining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6093000"/>
            <a:ext cx="86364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5734080"/>
            <a:ext cx="3240000" cy="11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48000" y="522936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869000"/>
            <a:ext cx="1728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s any harmful gases, separates dangerous chemicals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ent to a separate treating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6093000"/>
            <a:ext cx="504720" cy="288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24720" y="6381720"/>
            <a:ext cx="289080" cy="476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7640" y="6597720"/>
            <a:ext cx="231840" cy="404640"/>
          </a:xfrm>
          <a:custGeom>
            <a:avLst/>
            <a:gdLst/>
            <a:ahLst/>
            <a:rect l="l" t="t" r="r" b="b"/>
            <a:pathLst>
              <a:path w="146" h="255">
                <a:moveTo>
                  <a:pt x="61" y="7"/>
                </a:moveTo>
                <a:cubicBezTo>
                  <a:pt x="83" y="9"/>
                  <a:pt x="108" y="2"/>
                  <a:pt x="127" y="13"/>
                </a:cubicBezTo>
                <a:cubicBezTo>
                  <a:pt x="136" y="19"/>
                  <a:pt x="115" y="57"/>
                  <a:pt x="109" y="61"/>
                </a:cubicBezTo>
                <a:cubicBezTo>
                  <a:pt x="83" y="79"/>
                  <a:pt x="43" y="93"/>
                  <a:pt x="13" y="103"/>
                </a:cubicBezTo>
                <a:cubicBezTo>
                  <a:pt x="27" y="89"/>
                  <a:pt x="41" y="75"/>
                  <a:pt x="55" y="61"/>
                </a:cubicBezTo>
                <a:cubicBezTo>
                  <a:pt x="61" y="55"/>
                  <a:pt x="43" y="73"/>
                  <a:pt x="37" y="79"/>
                </a:cubicBezTo>
                <a:cubicBezTo>
                  <a:pt x="25" y="91"/>
                  <a:pt x="1" y="115"/>
                  <a:pt x="1" y="115"/>
                </a:cubicBezTo>
                <a:cubicBezTo>
                  <a:pt x="1" y="115"/>
                  <a:pt x="14" y="104"/>
                  <a:pt x="19" y="97"/>
                </a:cubicBezTo>
                <a:cubicBezTo>
                  <a:pt x="43" y="61"/>
                  <a:pt x="22" y="95"/>
                  <a:pt x="49" y="31"/>
                </a:cubicBezTo>
                <a:cubicBezTo>
                  <a:pt x="52" y="23"/>
                  <a:pt x="66" y="14"/>
                  <a:pt x="61" y="7"/>
                </a:cubicBezTo>
                <a:cubicBezTo>
                  <a:pt x="56" y="0"/>
                  <a:pt x="45" y="11"/>
                  <a:pt x="37" y="13"/>
                </a:cubicBezTo>
                <a:cubicBezTo>
                  <a:pt x="26" y="36"/>
                  <a:pt x="21" y="58"/>
                  <a:pt x="7" y="79"/>
                </a:cubicBezTo>
                <a:cubicBezTo>
                  <a:pt x="0" y="123"/>
                  <a:pt x="1" y="136"/>
                  <a:pt x="37" y="163"/>
                </a:cubicBezTo>
                <a:cubicBezTo>
                  <a:pt x="73" y="151"/>
                  <a:pt x="75" y="124"/>
                  <a:pt x="97" y="97"/>
                </a:cubicBezTo>
                <a:cubicBezTo>
                  <a:pt x="102" y="90"/>
                  <a:pt x="115" y="87"/>
                  <a:pt x="115" y="79"/>
                </a:cubicBezTo>
                <a:cubicBezTo>
                  <a:pt x="115" y="72"/>
                  <a:pt x="102" y="86"/>
                  <a:pt x="97" y="91"/>
                </a:cubicBezTo>
                <a:cubicBezTo>
                  <a:pt x="70" y="121"/>
                  <a:pt x="49" y="155"/>
                  <a:pt x="25" y="187"/>
                </a:cubicBezTo>
                <a:cubicBezTo>
                  <a:pt x="42" y="255"/>
                  <a:pt x="79" y="180"/>
                  <a:pt x="91" y="157"/>
                </a:cubicBezTo>
                <a:cubicBezTo>
                  <a:pt x="94" y="151"/>
                  <a:pt x="93" y="144"/>
                  <a:pt x="97" y="139"/>
                </a:cubicBezTo>
                <a:cubicBezTo>
                  <a:pt x="107" y="128"/>
                  <a:pt x="131" y="112"/>
                  <a:pt x="145" y="103"/>
                </a:cubicBezTo>
                <a:cubicBezTo>
                  <a:pt x="143" y="111"/>
                  <a:pt x="137" y="135"/>
                  <a:pt x="139" y="127"/>
                </a:cubicBezTo>
                <a:cubicBezTo>
                  <a:pt x="141" y="119"/>
                  <a:pt x="144" y="111"/>
                  <a:pt x="145" y="103"/>
                </a:cubicBezTo>
                <a:cubicBezTo>
                  <a:pt x="146" y="99"/>
                  <a:pt x="145" y="95"/>
                  <a:pt x="145" y="91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811640" y="6093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12000" y="558972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87640" y="2708280"/>
            <a:ext cx="180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 4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5084640"/>
            <a:ext cx="91440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4508640"/>
            <a:ext cx="8427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4924440"/>
            <a:ext cx="298440" cy="768240"/>
          </a:xfrm>
          <a:custGeom>
            <a:avLst/>
            <a:gdLst/>
            <a:ahLst/>
            <a:rect l="l" t="t" r="r" b="b"/>
            <a:pathLst>
              <a:path w="188" h="484">
                <a:moveTo>
                  <a:pt x="0" y="0"/>
                </a:moveTo>
                <a:cubicBezTo>
                  <a:pt x="10" y="70"/>
                  <a:pt x="33" y="83"/>
                  <a:pt x="72" y="138"/>
                </a:cubicBezTo>
                <a:cubicBezTo>
                  <a:pt x="77" y="145"/>
                  <a:pt x="79" y="154"/>
                  <a:pt x="84" y="162"/>
                </a:cubicBezTo>
                <a:cubicBezTo>
                  <a:pt x="89" y="170"/>
                  <a:pt x="96" y="178"/>
                  <a:pt x="102" y="186"/>
                </a:cubicBezTo>
                <a:cubicBezTo>
                  <a:pt x="113" y="218"/>
                  <a:pt x="142" y="264"/>
                  <a:pt x="162" y="294"/>
                </a:cubicBezTo>
                <a:cubicBezTo>
                  <a:pt x="172" y="343"/>
                  <a:pt x="159" y="386"/>
                  <a:pt x="144" y="432"/>
                </a:cubicBezTo>
                <a:cubicBezTo>
                  <a:pt x="151" y="454"/>
                  <a:pt x="147" y="451"/>
                  <a:pt x="168" y="468"/>
                </a:cubicBezTo>
                <a:cubicBezTo>
                  <a:pt x="174" y="473"/>
                  <a:pt x="183" y="474"/>
                  <a:pt x="186" y="480"/>
                </a:cubicBezTo>
                <a:cubicBezTo>
                  <a:pt x="188" y="484"/>
                  <a:pt x="178" y="480"/>
                  <a:pt x="174" y="48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200560"/>
            <a:ext cx="368280" cy="619200"/>
          </a:xfrm>
          <a:custGeom>
            <a:avLst/>
            <a:gdLst/>
            <a:ahLst/>
            <a:rect l="l" t="t" r="r" b="b"/>
            <a:pathLst>
              <a:path w="232" h="390">
                <a:moveTo>
                  <a:pt x="0" y="0"/>
                </a:moveTo>
                <a:cubicBezTo>
                  <a:pt x="13" y="80"/>
                  <a:pt x="58" y="172"/>
                  <a:pt x="138" y="204"/>
                </a:cubicBezTo>
                <a:cubicBezTo>
                  <a:pt x="161" y="238"/>
                  <a:pt x="145" y="217"/>
                  <a:pt x="192" y="264"/>
                </a:cubicBezTo>
                <a:cubicBezTo>
                  <a:pt x="204" y="276"/>
                  <a:pt x="210" y="294"/>
                  <a:pt x="222" y="306"/>
                </a:cubicBezTo>
                <a:cubicBezTo>
                  <a:pt x="232" y="336"/>
                  <a:pt x="230" y="321"/>
                  <a:pt x="222" y="366"/>
                </a:cubicBezTo>
                <a:cubicBezTo>
                  <a:pt x="221" y="374"/>
                  <a:pt x="216" y="390"/>
                  <a:pt x="216" y="390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0400" y="5048280"/>
            <a:ext cx="438480" cy="609480"/>
          </a:xfrm>
          <a:custGeom>
            <a:avLst/>
            <a:gdLst/>
            <a:ahLst/>
            <a:rect l="l" t="t" r="r" b="b"/>
            <a:pathLst>
              <a:path w="276" h="384">
                <a:moveTo>
                  <a:pt x="0" y="0"/>
                </a:moveTo>
                <a:cubicBezTo>
                  <a:pt x="10" y="30"/>
                  <a:pt x="27" y="39"/>
                  <a:pt x="48" y="60"/>
                </a:cubicBezTo>
                <a:cubicBezTo>
                  <a:pt x="53" y="65"/>
                  <a:pt x="55" y="73"/>
                  <a:pt x="60" y="78"/>
                </a:cubicBezTo>
                <a:cubicBezTo>
                  <a:pt x="75" y="91"/>
                  <a:pt x="97" y="97"/>
                  <a:pt x="108" y="114"/>
                </a:cubicBezTo>
                <a:cubicBezTo>
                  <a:pt x="131" y="149"/>
                  <a:pt x="151" y="190"/>
                  <a:pt x="168" y="228"/>
                </a:cubicBezTo>
                <a:cubicBezTo>
                  <a:pt x="173" y="240"/>
                  <a:pt x="172" y="254"/>
                  <a:pt x="180" y="264"/>
                </a:cubicBezTo>
                <a:cubicBezTo>
                  <a:pt x="195" y="284"/>
                  <a:pt x="217" y="302"/>
                  <a:pt x="228" y="324"/>
                </a:cubicBezTo>
                <a:cubicBezTo>
                  <a:pt x="238" y="344"/>
                  <a:pt x="229" y="343"/>
                  <a:pt x="246" y="360"/>
                </a:cubicBezTo>
                <a:cubicBezTo>
                  <a:pt x="255" y="369"/>
                  <a:pt x="267" y="375"/>
                  <a:pt x="276" y="384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284640"/>
            <a:ext cx="165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maining waste goes into a deep man-made 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p secret location, restricted to unauthorised pers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619280" y="4005360"/>
            <a:ext cx="50472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292360" y="4221000"/>
            <a:ext cx="86364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573360"/>
            <a:ext cx="2448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are then separated for re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flipH="1">
            <a:off x="1042200" y="2852640"/>
            <a:ext cx="358920" cy="358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3141720"/>
            <a:ext cx="328680" cy="520560"/>
          </a:xfrm>
          <a:custGeom>
            <a:avLst/>
            <a:gdLst/>
            <a:ahLst/>
            <a:rect l="l" t="t" r="r" b="b"/>
            <a:pathLst>
              <a:path w="207" h="328">
                <a:moveTo>
                  <a:pt x="0" y="0"/>
                </a:moveTo>
                <a:cubicBezTo>
                  <a:pt x="37" y="74"/>
                  <a:pt x="129" y="108"/>
                  <a:pt x="162" y="186"/>
                </a:cubicBezTo>
                <a:cubicBezTo>
                  <a:pt x="178" y="222"/>
                  <a:pt x="174" y="263"/>
                  <a:pt x="186" y="300"/>
                </a:cubicBezTo>
                <a:cubicBezTo>
                  <a:pt x="189" y="308"/>
                  <a:pt x="190" y="328"/>
                  <a:pt x="198" y="324"/>
                </a:cubicBezTo>
                <a:cubicBezTo>
                  <a:pt x="207" y="320"/>
                  <a:pt x="198" y="304"/>
                  <a:pt x="198" y="294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213000"/>
            <a:ext cx="239760" cy="695520"/>
          </a:xfrm>
          <a:custGeom>
            <a:avLst/>
            <a:gdLst/>
            <a:ahLst/>
            <a:rect l="l" t="t" r="r" b="b"/>
            <a:pathLst>
              <a:path w="151" h="438">
                <a:moveTo>
                  <a:pt x="17" y="0"/>
                </a:moveTo>
                <a:cubicBezTo>
                  <a:pt x="0" y="50"/>
                  <a:pt x="25" y="86"/>
                  <a:pt x="59" y="120"/>
                </a:cubicBezTo>
                <a:cubicBezTo>
                  <a:pt x="77" y="175"/>
                  <a:pt x="98" y="228"/>
                  <a:pt x="119" y="282"/>
                </a:cubicBezTo>
                <a:cubicBezTo>
                  <a:pt x="121" y="330"/>
                  <a:pt x="116" y="379"/>
                  <a:pt x="125" y="426"/>
                </a:cubicBezTo>
                <a:cubicBezTo>
                  <a:pt x="127" y="434"/>
                  <a:pt x="142" y="428"/>
                  <a:pt x="149" y="432"/>
                </a:cubicBezTo>
                <a:cubicBezTo>
                  <a:pt x="151" y="433"/>
                  <a:pt x="149" y="436"/>
                  <a:pt x="149" y="438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213000"/>
            <a:ext cx="209880" cy="595440"/>
          </a:xfrm>
          <a:custGeom>
            <a:avLst/>
            <a:gdLst/>
            <a:ahLst/>
            <a:rect l="l" t="t" r="r" b="b"/>
            <a:pathLst>
              <a:path w="132" h="375">
                <a:moveTo>
                  <a:pt x="11" y="9"/>
                </a:moveTo>
                <a:cubicBezTo>
                  <a:pt x="45" y="61"/>
                  <a:pt x="0" y="0"/>
                  <a:pt x="41" y="33"/>
                </a:cubicBezTo>
                <a:cubicBezTo>
                  <a:pt x="47" y="38"/>
                  <a:pt x="48" y="46"/>
                  <a:pt x="53" y="51"/>
                </a:cubicBezTo>
                <a:cubicBezTo>
                  <a:pt x="58" y="56"/>
                  <a:pt x="65" y="59"/>
                  <a:pt x="71" y="63"/>
                </a:cubicBezTo>
                <a:cubicBezTo>
                  <a:pt x="89" y="89"/>
                  <a:pt x="107" y="115"/>
                  <a:pt x="125" y="141"/>
                </a:cubicBezTo>
                <a:cubicBezTo>
                  <a:pt x="127" y="163"/>
                  <a:pt x="132" y="185"/>
                  <a:pt x="131" y="207"/>
                </a:cubicBezTo>
                <a:cubicBezTo>
                  <a:pt x="129" y="234"/>
                  <a:pt x="109" y="254"/>
                  <a:pt x="101" y="279"/>
                </a:cubicBezTo>
                <a:cubicBezTo>
                  <a:pt x="107" y="363"/>
                  <a:pt x="107" y="331"/>
                  <a:pt x="107" y="375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860640"/>
            <a:ext cx="3203640" cy="2997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700000" y="4797360"/>
            <a:ext cx="1150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4292640"/>
            <a:ext cx="1368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chemicals in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or houses and the sewerag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2565360"/>
            <a:ext cx="230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50920" y="1197000"/>
            <a:ext cx="468000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anation: This plant is self sufficient because it has robot worker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power itself and only needs 1 supervisor. It has minimal impact on the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casts very little to run. (not to bu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860640"/>
            <a:ext cx="5040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treatment plant also has no impact on wildlife and huma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 yeah, it doesn’t have any nasty odoursC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3:19:21Z</dcterms:created>
  <dc:creator>Primary School</dc:creator>
  <dc:description/>
  <dc:language>en-US</dc:language>
  <cp:lastModifiedBy>Primary School</cp:lastModifiedBy>
  <dcterms:modified xsi:type="dcterms:W3CDTF">2009-06-10T00:39:24Z</dcterms:modified>
  <cp:revision>4</cp:revision>
  <dc:subject/>
  <dc:title>Slide 1</dc:title>
</cp:coreProperties>
</file>